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A95-664A-4046-A917-C6B73E0B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57D-959A-4F60-B966-9EEEF3E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280-4F33-4D2E-B608-FEE75086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82C-3B8D-433B-8596-EC68239D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FA3D-478C-40FC-A731-E4542901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4879-D369-4EA4-86AA-5DEEB67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944-DCFD-4862-A57D-C08006E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33AD-2327-4A20-9C1C-0D18C75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54BF-B7E7-4FD8-8C3E-6EE9D7D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E83E-5854-4F2C-93B6-34B3F8A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C0C-041B-454D-8F13-2C012FB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2C7-65B4-458E-B720-D07B450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DC2-7245-415B-A585-9ACCC2B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F74E-1901-4E43-B3D0-59D748B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DC2-6F83-4C46-9D15-A14C210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325C-5DA0-44C9-A6FB-C713B89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D03C-4BE7-4436-A2A3-47765DD0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0AFB-1F12-4589-8C38-19DD090E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03EE-784E-41FB-A8C0-00951FC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08D7-DEA5-4DC6-9D69-193FAF80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92D8-389D-46FC-B136-58D5FC83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7D8F-7931-40E4-9A30-576C72DD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9B3-EAD4-4043-8AE3-56F779A3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BBFC-8454-4594-B2BD-D35B0F5E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9CA5-E735-4834-BAED-5D439D6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7D06-7722-453F-BD35-0F56D0F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CA66-D442-4ABC-A5BC-C74685C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C7E4-6EEB-422A-BB96-139307F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D1E9-FA88-4B95-BD39-45590259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D5D0-E26E-45E6-9D87-22808326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3E13-06D7-4CFF-A842-7EBD69F9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AD00-5AE2-4639-8184-CAC00DA2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3A18-F334-4451-9C4E-CB1FF1D4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C61-23CC-4B6E-8C88-90B7CBC2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348A-C0EA-4C90-A333-AE2DA72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BA13-5365-453E-A7E3-BD77F6B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CE3E-1589-4DB4-BA4D-2FBB362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FF82-D432-41A7-B4D2-473FEAEE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AEE5-D723-4303-BB73-9CE86761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02BC-9437-4EC1-8391-CE293B0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1F90-97C8-4322-854B-CF37F33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C9EB-DE59-4989-883C-FA508CEB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0A61-51AE-4EAD-A29B-5DF1EE1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5AEF-EDA2-4FCE-B48B-0F32896A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A55-B246-469A-BD86-45EC52D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B798-71C8-4441-8687-3A65361C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687B-37CF-406B-8976-2DB3D95C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374E-21EC-498E-8FA6-11C05BA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6B2D-4BA5-4AD3-BC58-77D2943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BD87-798B-410D-8BBE-5E88811F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F2DE-FBAC-4868-9762-45765DE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88AD-30A6-4E7B-A20D-F607AF1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0CB2-CB50-4627-A04A-1302BCF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8DE2-701C-479F-B691-377CCAF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6A89-BB80-4665-B8DE-D5C1EF66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E4A-192C-4218-96A2-6A0E3AC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0201-74F9-4C77-9463-3A492F15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B661B-3409-4326-8CB6-EF6C848B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FAD08-5DAE-4AF6-A774-CA16F6A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B569-CB31-465F-B12F-C6B9FB65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50C6-1221-45C9-A836-9BCAA66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73A1-D6D2-4CF7-A860-5B0D1C0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A74C-1AA1-4980-8B82-B422868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7FA75-46B4-4A6C-BE13-FF13F86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4085-BE98-433C-B0ED-6899F75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D4DB-D7D5-450F-8A1A-0920656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F41-4684-46EB-AD43-CD5642C0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AC6B-0F03-4188-A29A-86F7EF00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B568-0E1E-4808-9661-00A43E4E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A8C21-2373-4BF2-A0F6-F6114071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A634-0472-4C7C-A029-A2BDBEB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444E-92E2-40A4-B3A7-C57D359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C4FB-C366-45B8-BD1E-8CC76EEE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A87E-12B9-427E-8B3F-B484AC3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E7B8-91D9-4C92-841C-19989B6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C616-26F6-48CF-BCE3-C925379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1BE0-FA22-4D77-89B5-9FEDD13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15C-CCB7-4585-8518-BAC759E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FCE2-A329-4897-B9D7-9B27EF9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AE92-8D27-4CE2-ABBD-D5A539A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F64B-15EF-470B-B18E-B6D0AD23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92ED-8AAD-4562-9D90-9F892CBE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51BBA-628B-4B64-8E55-A76D9241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A76-01A8-433B-B000-78828C1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1AC-5460-4751-83CA-8531214C9913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0873-EC12-4E4C-961B-06BA001D274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46C-ED44-4877-B0EA-E43F55EA96A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398-DC95-4F07-82B3-4F0288EBA984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A9E-1CEA-4E75-8F93-7A71791D825C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F22-2681-4F8B-9996-6CEFCA99C6BB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C59D-A8E2-42E4-9D2D-C0CEE5041C88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plication For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6C6-D9F6-4CBF-838C-4A7A5A1DEEF2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ight Arrow 6"/>
          <p:cNvSpPr/>
          <p:nvPr/>
        </p:nvSpPr>
        <p:spPr>
          <a:xfrm>
            <a:off x="285840" y="250020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R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ight Arrow 7"/>
          <p:cNvSpPr/>
          <p:nvPr/>
        </p:nvSpPr>
        <p:spPr>
          <a:xfrm>
            <a:off x="2786040" y="250020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ight Arrow 8"/>
          <p:cNvSpPr/>
          <p:nvPr/>
        </p:nvSpPr>
        <p:spPr>
          <a:xfrm>
            <a:off x="5643720" y="3062160"/>
            <a:ext cx="2643120" cy="100980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ight Arrow 9"/>
          <p:cNvSpPr/>
          <p:nvPr/>
        </p:nvSpPr>
        <p:spPr>
          <a:xfrm>
            <a:off x="5643720" y="200016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ounded Rectangle 10"/>
          <p:cNvSpPr/>
          <p:nvPr/>
        </p:nvSpPr>
        <p:spPr>
          <a:xfrm>
            <a:off x="785880" y="442908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c19859"/>
          </a:solidFill>
          <a:ln w="4860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Adverti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ight Arrow 11"/>
          <p:cNvSpPr/>
          <p:nvPr/>
        </p:nvSpPr>
        <p:spPr>
          <a:xfrm>
            <a:off x="4500720" y="428616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ow to appl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Rounded Rectangle 14"/>
          <p:cNvGrpSpPr/>
          <p:nvPr/>
        </p:nvGrpSpPr>
        <p:grpSpPr>
          <a:xfrm>
            <a:off x="2176560" y="5602320"/>
            <a:ext cx="4016160" cy="907920"/>
            <a:chOff x="2176560" y="5602320"/>
            <a:chExt cx="4016160" cy="907920"/>
          </a:xfrm>
        </p:grpSpPr>
        <p:pic>
          <p:nvPicPr>
            <p:cNvPr id="314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2176560" y="5602320"/>
              <a:ext cx="4016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324160" y="5681520"/>
              <a:ext cx="37814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Tahoma"/>
                </a:rPr>
                <a:t>Application or Resume/C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914400" y="133200"/>
            <a:ext cx="7236000" cy="115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362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&amp; Weigh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’s name , age &amp; occup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, parents, next of kin’s etc, name, age &amp; occup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Serv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Convi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1043-42B8-4409-B9BD-C8C2928517C5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7" descr="D:\PFiles\MSOffice\Clipart\standard\stddir4\so01441_.wmf"/>
          <p:cNvPicPr/>
          <p:nvPr/>
        </p:nvPicPr>
        <p:blipFill>
          <a:blip r:embed="rId2"/>
          <a:stretch/>
        </p:blipFill>
        <p:spPr>
          <a:xfrm>
            <a:off x="228600" y="3886200"/>
            <a:ext cx="1944720" cy="2639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D:\PFiles\MSOffice\Clipart\standard\stddir4\so00769_.wmf"/>
          <p:cNvPicPr/>
          <p:nvPr/>
        </p:nvPicPr>
        <p:blipFill>
          <a:blip r:embed="rId3"/>
          <a:stretch/>
        </p:blipFill>
        <p:spPr>
          <a:xfrm>
            <a:off x="6477120" y="4419720"/>
            <a:ext cx="23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437920" y="22856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 ownership, financial transactions, legal or civil actions, smoking, drink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ivers </a:t>
            </a: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Licen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Bankcard, passport, Medicare numb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lth of partner/fami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A71-2506-4B6E-8375-C15CEA3D140F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4" descr="D:\PFiles\MSOffice\Clipart\standard\stddir1\bd06919_.wmf"/>
          <p:cNvPicPr/>
          <p:nvPr/>
        </p:nvPicPr>
        <p:blipFill>
          <a:blip r:embed="rId2"/>
          <a:stretch/>
        </p:blipFill>
        <p:spPr>
          <a:xfrm>
            <a:off x="6638760" y="0"/>
            <a:ext cx="2505240" cy="229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D:\PFiles\MSOffice\Clipart\standard\stddir1\bd00023_.wmf"/>
          <p:cNvPicPr/>
          <p:nvPr/>
        </p:nvPicPr>
        <p:blipFill>
          <a:blip r:embed="rId3"/>
          <a:stretch/>
        </p:blipFill>
        <p:spPr>
          <a:xfrm>
            <a:off x="0" y="4786200"/>
            <a:ext cx="22096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rbel"/>
              </a:rPr>
              <a:t>Critique the applications for employment form as provided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Content Placeholder 5" descr="arch_gilliandunlop,0.jpg"/>
          <p:cNvPicPr/>
          <p:nvPr/>
        </p:nvPicPr>
        <p:blipFill>
          <a:blip r:embed="rId2"/>
          <a:stretch/>
        </p:blipFill>
        <p:spPr>
          <a:xfrm>
            <a:off x="4645080" y="2066760"/>
            <a:ext cx="4048200" cy="404208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7A6A-5883-4C29-9AB3-DC608DB5C37E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669160" cy="142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particular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itle, name, &amp; addres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tact  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ucation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ecial skil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vious and present employment detai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feree conta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113-C4FE-4C91-8F8B-20AAF5E54B27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arch_craigruddy,0.jpg"/>
          <p:cNvPicPr/>
          <p:nvPr/>
        </p:nvPicPr>
        <p:blipFill>
          <a:blip r:embed="rId2"/>
          <a:stretch/>
        </p:blipFill>
        <p:spPr>
          <a:xfrm>
            <a:off x="5261040" y="1603440"/>
            <a:ext cx="29322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 Histo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st employ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urrent employ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 referen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urity chec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cal Examin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sessment Centr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sychological/Skills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iminal Records ***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dit Reports ****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96B8-8042-4FE5-899D-FDBC204A3BEA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6000840" y="1600200"/>
            <a:ext cx="30002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rbel"/>
              </a:rPr>
              <a:t>Design an application for employment form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rbel"/>
              </a:rPr>
              <a:t>Develop a how to apply kit to send with Application form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Content Placeholder 5" descr="arch_roberthannaford,0.jpg"/>
          <p:cNvPicPr/>
          <p:nvPr/>
        </p:nvPicPr>
        <p:blipFill>
          <a:blip r:embed="rId2"/>
          <a:stretch/>
        </p:blipFill>
        <p:spPr>
          <a:xfrm>
            <a:off x="4648320" y="1881360"/>
            <a:ext cx="4038480" cy="44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580-BC3A-4AEA-808B-06F9059736B1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5:16:54Z</dcterms:created>
  <dc:creator>Mr &amp; Mrs McLeod</dc:creator>
  <dc:description/>
  <dc:language>en-US</dc:language>
  <cp:lastModifiedBy>John</cp:lastModifiedBy>
  <dcterms:modified xsi:type="dcterms:W3CDTF">2010-08-28T00:05:50Z</dcterms:modified>
  <cp:revision>12</cp:revision>
  <dc:subject/>
  <dc:title>Recruitment &amp; Selection</dc:title>
</cp:coreProperties>
</file>